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B03D-212E-4A47-8530-05BEADF7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C1F4-1D61-448F-9057-08C4554B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F23F-9C66-4889-A1E2-1F239267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F7A4-EA0C-46A2-9945-ABD88221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ED3-1D26-4C14-9413-2530019E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9E8C-50BA-4171-A6CC-D96AF608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1F90-C60B-46CA-AC88-7C7F58ED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DE67-B421-4D37-BACF-041DEF05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96AB-22A1-4728-97B2-A21E07DD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099A-99BD-4CE5-8507-93DB1911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3FF4-BFF2-4133-B596-B4C38C37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17F-4473-4EFC-BF1F-974255CB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87F4-7D68-4452-8465-349723EA6BF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71520" y="923760"/>
            <a:ext cx="6600960" cy="501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66960" y="1828800"/>
            <a:ext cx="721008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94472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2843280" y="4437000"/>
          <a:ext cx="5002200" cy="148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4437000"/>
                    <a:ext cx="500220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987640" y="573408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fficio Formazione ed aggior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987640" y="2403360"/>
          <a:ext cx="486720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7640" y="2403360"/>
                    <a:ext cx="48672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987640" y="20541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il Patrocinio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27816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orato Edilizia Scolastica e Istr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3573360"/>
            <a:ext cx="453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la collaborazione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91240" y="5493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il contributo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3132000" y="1052640"/>
            <a:ext cx="3772080" cy="90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2448000" cy="1086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987640" y="177336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87640" y="3141720"/>
            <a:ext cx="53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59280" y="3573360"/>
            <a:ext cx="453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35280" y="189000"/>
          <a:ext cx="3776760" cy="666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189000"/>
                    <a:ext cx="377676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68360" y="2708280"/>
            <a:ext cx="1800000" cy="355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5589720"/>
            <a:ext cx="2808360" cy="992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1800360" cy="3554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00720" y="476280"/>
            <a:ext cx="2761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si ringraz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1484280"/>
            <a:ext cx="489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er la graf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+ G  ( Achilli Ghizzardi Associati ) Mi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tonio Ber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35280" y="2997360"/>
            <a:ext cx="489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er la rassegna di fil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lavio Vergerio e la Mediateca Provinc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4005360"/>
            <a:ext cx="511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er la ricerca bibliograf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ibreria Seghez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35280" y="5084640"/>
            <a:ext cx="52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er il web edi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rio Magg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0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14:01:15Z</dcterms:created>
  <dc:creator>MARCELLA</dc:creator>
  <dc:description/>
  <dc:language>en-US</dc:language>
  <cp:lastModifiedBy>Berti</cp:lastModifiedBy>
  <dcterms:modified xsi:type="dcterms:W3CDTF">2004-01-12T21:28:18Z</dcterms:modified>
  <cp:revision>21</cp:revision>
  <dc:subject/>
  <dc:title>Diapositiva 1</dc:title>
</cp:coreProperties>
</file>